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30691969245811"/>
          <c:y val="0.0197475315585552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102262121684"/>
          <c:y val="0.122984626921635"/>
          <c:w val="0.959957335229545"/>
          <c:h val="0.85676790401199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3</c:v>
                </c:pt>
                <c:pt idx="2">
                  <c:v>4</c:v>
                </c:pt>
                <c:pt idx="3">
                  <c:v>0</c:v>
                </c:pt>
                <c:pt idx="4">
                  <c:v>0</c:v>
                </c:pt>
                <c:pt idx="5">
                  <c:v>4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2</c:v>
                </c:pt>
                <c:pt idx="1">
                  <c:v>1.33333333333333</c:v>
                </c:pt>
                <c:pt idx="2">
                  <c:v>4</c:v>
                </c:pt>
                <c:pt idx="3">
                  <c:v>4</c:v>
                </c:pt>
                <c:pt idx="4">
                  <c:v>1.33333333333333</c:v>
                </c:pt>
                <c:pt idx="5">
                  <c:v>1.33333333333333</c:v>
                </c:pt>
                <c:pt idx="6">
                  <c:v>0</c:v>
                </c:pt>
                <c:pt idx="7">
                  <c:v>1.3333333333333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.666666666666666</c:v>
                </c:pt>
              </c:numCache>
            </c:numRef>
          </c:val>
        </c:ser>
        <c:gapWidth val="100"/>
        <c:overlap val="0"/>
        <c:axId val="98005957"/>
        <c:axId val="36612358"/>
      </c:barChart>
      <c:catAx>
        <c:axId val="9800595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12358"/>
        <c:crossesAt val="0"/>
        <c:auto val="1"/>
        <c:lblAlgn val="ctr"/>
        <c:lblOffset val="100"/>
        <c:noMultiLvlLbl val="0"/>
      </c:catAx>
      <c:valAx>
        <c:axId val="36612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05957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1" spc="-1" strike="noStrike">
                <a:solidFill>
                  <a:srgbClr val="000000"/>
                </a:solidFill>
                <a:latin typeface="Arial"/>
              </a:defRPr>
            </a:pPr>
            <a:r>
              <a:rPr b="0" sz="911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30647526776588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23234595675541"/>
          <c:w val="0.959957335229545"/>
          <c:h val="0.8563929508811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4</c:v>
                </c:pt>
                <c:pt idx="2">
                  <c:v>10</c:v>
                </c:pt>
                <c:pt idx="3">
                  <c:v>6</c:v>
                </c:pt>
                <c:pt idx="4">
                  <c:v>2</c:v>
                </c:pt>
                <c:pt idx="5">
                  <c:v>4</c:v>
                </c:pt>
                <c:pt idx="6">
                  <c:v>0</c:v>
                </c:pt>
                <c:pt idx="7">
                  <c:v>2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32201923"/>
        <c:axId val="13907964"/>
      </c:barChart>
      <c:catAx>
        <c:axId val="3220192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07964"/>
        <c:crossesAt val="0"/>
        <c:auto val="1"/>
        <c:lblAlgn val="ctr"/>
        <c:lblOffset val="100"/>
        <c:noMultiLvlLbl val="0"/>
      </c:catAx>
      <c:valAx>
        <c:axId val="13907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0192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17759210701747"/>
          <c:y val="0.019997500312460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857892763405"/>
          <c:w val="0.959957335229545"/>
          <c:h val="0.8425196850393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4</c:v>
                </c:pt>
                <c:pt idx="2">
                  <c:v>6</c:v>
                </c:pt>
                <c:pt idx="3">
                  <c:v>0</c:v>
                </c:pt>
                <c:pt idx="4">
                  <c:v>2</c:v>
                </c:pt>
                <c:pt idx="5">
                  <c:v>8</c:v>
                </c:pt>
                <c:pt idx="6">
                  <c:v>0</c:v>
                </c:pt>
                <c:pt idx="7">
                  <c:v>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99613574"/>
        <c:axId val="85803732"/>
      </c:barChart>
      <c:catAx>
        <c:axId val="9961357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03732"/>
        <c:crossesAt val="0"/>
        <c:auto val="1"/>
        <c:lblAlgn val="ctr"/>
        <c:lblOffset val="100"/>
        <c:noMultiLvlLbl val="0"/>
      </c:catAx>
      <c:valAx>
        <c:axId val="85803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13574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107" spc="-1" strike="noStrike">
                <a:solidFill>
                  <a:srgbClr val="000000"/>
                </a:solidFill>
                <a:latin typeface="Arial"/>
              </a:defRPr>
            </a:pPr>
            <a:r>
              <a:rPr b="0" sz="1107" spc="-1" strike="noStrike">
                <a:solidFill>
                  <a:srgbClr val="000000"/>
                </a:solidFill>
                <a:latin typeface="Arial"/>
              </a:rPr>
              <a:t>EEJMA VESPERTINO</a:t>
            </a:r>
          </a:p>
        </c:rich>
      </c:tx>
      <c:layout>
        <c:manualLayout>
          <c:xMode val="edge"/>
          <c:yMode val="edge"/>
          <c:x val="0.417677492282944"/>
          <c:y val="0.019864018130915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56541019956"/>
          <c:y val="0.136915077989601"/>
          <c:w val="0.959958262684231"/>
          <c:h val="0.8426876416477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2</c:v>
                </c:pt>
                <c:pt idx="1">
                  <c:v>0</c:v>
                </c:pt>
                <c:pt idx="2">
                  <c:v>14</c:v>
                </c:pt>
                <c:pt idx="3">
                  <c:v>8</c:v>
                </c:pt>
                <c:pt idx="4">
                  <c:v>2</c:v>
                </c:pt>
                <c:pt idx="5">
                  <c:v>6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4.5</c:v>
                </c:pt>
                <c:pt idx="1">
                  <c:v>3</c:v>
                </c:pt>
                <c:pt idx="2">
                  <c:v>9</c:v>
                </c:pt>
                <c:pt idx="3">
                  <c:v>9</c:v>
                </c:pt>
                <c:pt idx="4">
                  <c:v>3</c:v>
                </c:pt>
                <c:pt idx="5">
                  <c:v>3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1.5</c:v>
                </c:pt>
              </c:numCache>
            </c:numRef>
          </c:val>
        </c:ser>
        <c:gapWidth val="100"/>
        <c:overlap val="0"/>
        <c:axId val="19832046"/>
        <c:axId val="64483095"/>
      </c:barChart>
      <c:catAx>
        <c:axId val="198320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83095"/>
        <c:crossesAt val="0"/>
        <c:auto val="1"/>
        <c:lblAlgn val="ctr"/>
        <c:lblOffset val="100"/>
        <c:noMultiLvlLbl val="0"/>
      </c:catAx>
      <c:valAx>
        <c:axId val="64483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3204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55" spc="-1" strike="noStrike">
                <a:solidFill>
                  <a:srgbClr val="000000"/>
                </a:solidFill>
                <a:latin typeface="Arial"/>
              </a:defRPr>
            </a:pPr>
            <a:r>
              <a:rPr b="0" sz="955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3580293980599"/>
          <c:y val="0.02013064924676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940695556403"/>
          <c:y val="0.123183575523264"/>
          <c:w val="0.959969500571864"/>
          <c:h val="0.85641914411411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8</c:v>
                </c:pt>
                <c:pt idx="3">
                  <c:v>2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2173913043478</c:v>
                </c:pt>
                <c:pt idx="1">
                  <c:v>1.52173913043478</c:v>
                </c:pt>
                <c:pt idx="2">
                  <c:v>7.60869565217391</c:v>
                </c:pt>
                <c:pt idx="3">
                  <c:v>6.08695652173913</c:v>
                </c:pt>
                <c:pt idx="4">
                  <c:v>4.56521739130435</c:v>
                </c:pt>
                <c:pt idx="5">
                  <c:v>4.56521739130435</c:v>
                </c:pt>
                <c:pt idx="6">
                  <c:v>4.56521739130435</c:v>
                </c:pt>
                <c:pt idx="7">
                  <c:v>4.5652173913043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9961413"/>
        <c:axId val="29313312"/>
      </c:barChart>
      <c:catAx>
        <c:axId val="899614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13312"/>
        <c:crossesAt val="0"/>
        <c:auto val="1"/>
        <c:lblAlgn val="ctr"/>
        <c:lblOffset val="100"/>
        <c:noMultiLvlLbl val="0"/>
      </c:catAx>
      <c:valAx>
        <c:axId val="29313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61413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910" spc="-1" strike="noStrike">
                <a:solidFill>
                  <a:srgbClr val="000000"/>
                </a:solidFill>
                <a:latin typeface="Arial"/>
              </a:defRPr>
            </a:pPr>
            <a:r>
              <a:rPr b="0" sz="910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35758410737301"/>
          <c:y val="0.019864018130915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23050259965338"/>
          <c:w val="0.959957335229545"/>
          <c:h val="0.8566857752299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47826086956522</c:v>
                </c:pt>
                <c:pt idx="1">
                  <c:v>1.47826086956522</c:v>
                </c:pt>
                <c:pt idx="2">
                  <c:v>7.39130434782609</c:v>
                </c:pt>
                <c:pt idx="3">
                  <c:v>5.91304347826087</c:v>
                </c:pt>
                <c:pt idx="4">
                  <c:v>4.43478260869565</c:v>
                </c:pt>
                <c:pt idx="5">
                  <c:v>4.43478260869565</c:v>
                </c:pt>
                <c:pt idx="6">
                  <c:v>4.43478260869565</c:v>
                </c:pt>
                <c:pt idx="7">
                  <c:v>4.43478260869565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53193699"/>
        <c:axId val="6295456"/>
      </c:barChart>
      <c:catAx>
        <c:axId val="5319369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5456"/>
        <c:crossesAt val="0"/>
        <c:auto val="1"/>
        <c:lblAlgn val="ctr"/>
        <c:lblOffset val="100"/>
        <c:noMultiLvlLbl val="0"/>
      </c:catAx>
      <c:valAx>
        <c:axId val="6295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9369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23670059108484"/>
          <c:y val="0.019872515935508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857892763405"/>
          <c:w val="0.959957335229545"/>
          <c:h val="0.8426446694163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1</c:v>
                </c:pt>
                <c:pt idx="5">
                  <c:v>0</c:v>
                </c:pt>
                <c:pt idx="6">
                  <c:v>0</c:v>
                </c:pt>
                <c:pt idx="7">
                  <c:v>3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56521739130435</c:v>
                </c:pt>
                <c:pt idx="1">
                  <c:v>1.56521739130435</c:v>
                </c:pt>
                <c:pt idx="2">
                  <c:v>7.82608695652174</c:v>
                </c:pt>
                <c:pt idx="3">
                  <c:v>6.26086956521739</c:v>
                </c:pt>
                <c:pt idx="4">
                  <c:v>4.69565217391304</c:v>
                </c:pt>
                <c:pt idx="5">
                  <c:v>4.69565217391304</c:v>
                </c:pt>
                <c:pt idx="6">
                  <c:v>4.69565217391304</c:v>
                </c:pt>
                <c:pt idx="7">
                  <c:v>4.69565217391304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41204618"/>
        <c:axId val="42586322"/>
      </c:barChart>
      <c:catAx>
        <c:axId val="412046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86322"/>
        <c:crossesAt val="0"/>
        <c:auto val="1"/>
        <c:lblAlgn val="ctr"/>
        <c:lblOffset val="100"/>
        <c:noMultiLvlLbl val="0"/>
      </c:catAx>
      <c:valAx>
        <c:axId val="42586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0461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083" spc="-1" strike="noStrike">
                <a:solidFill>
                  <a:srgbClr val="000000"/>
                </a:solidFill>
                <a:latin typeface="Arial"/>
              </a:defRPr>
            </a:pPr>
            <a:r>
              <a:rPr b="0" sz="1083" spc="-1" strike="noStrike">
                <a:solidFill>
                  <a:srgbClr val="000000"/>
                </a:solidFill>
                <a:latin typeface="Arial"/>
              </a:rPr>
              <a:t>EEAJMA NOTURNO</a:t>
            </a:r>
          </a:p>
        </c:rich>
      </c:tx>
      <c:layout>
        <c:manualLayout>
          <c:xMode val="edge"/>
          <c:yMode val="edge"/>
          <c:x val="0.423670059108484"/>
          <c:y val="0.0198640181309159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546686813919"/>
          <c:y val="0.13664844687375"/>
          <c:w val="0.959957335229545"/>
          <c:h val="0.843087588321557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na J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6"/>
                <c:pt idx="0">
                  <c:v>1</c:v>
                </c:pt>
                <c:pt idx="1">
                  <c:v>0</c:v>
                </c:pt>
                <c:pt idx="2">
                  <c:v>6</c:v>
                </c:pt>
                <c:pt idx="3">
                  <c:v>0</c:v>
                </c:pt>
                <c:pt idx="4">
                  <c:v>0</c:v>
                </c:pt>
                <c:pt idx="5">
                  <c:v>1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na K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numFmt formatCode="0.0" sourceLinked="1"/>
            <c:txPr>
              <a:bodyPr wrap="non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6"/>
                <c:pt idx="0">
                  <c:v>Educação Física</c:v>
                </c:pt>
                <c:pt idx="1">
                  <c:v>Artes</c:v>
                </c:pt>
                <c:pt idx="2">
                  <c:v>Língua Português</c:v>
                </c:pt>
                <c:pt idx="3">
                  <c:v>Matemática</c:v>
                </c:pt>
                <c:pt idx="4">
                  <c:v>História</c:v>
                </c:pt>
                <c:pt idx="5">
                  <c:v>Geografia </c:v>
                </c:pt>
                <c:pt idx="6">
                  <c:v>Língua Estrangeira</c:v>
                </c:pt>
                <c:pt idx="7">
                  <c:v>Ciência</c:v>
                </c:pt>
                <c:pt idx="8">
                  <c:v>Química</c:v>
                </c:pt>
                <c:pt idx="9">
                  <c:v>Física</c:v>
                </c:pt>
                <c:pt idx="10">
                  <c:v>Biologia</c:v>
                </c:pt>
                <c:pt idx="11">
                  <c:v>Literatura</c:v>
                </c:pt>
                <c:pt idx="12">
                  <c:v>Filosofia</c:v>
                </c:pt>
                <c:pt idx="13">
                  <c:v>Sociologia</c:v>
                </c:pt>
                <c:pt idx="14">
                  <c:v>Educação Religiosa</c:v>
                </c:pt>
                <c:pt idx="15">
                  <c:v>Produções interativa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6"/>
                <c:pt idx="0">
                  <c:v>1.39130434782609</c:v>
                </c:pt>
                <c:pt idx="1">
                  <c:v>1.39130434782609</c:v>
                </c:pt>
                <c:pt idx="2">
                  <c:v>6.95652173913043</c:v>
                </c:pt>
                <c:pt idx="3">
                  <c:v>5.56521739130435</c:v>
                </c:pt>
                <c:pt idx="4">
                  <c:v>4.17391304347826</c:v>
                </c:pt>
                <c:pt idx="5">
                  <c:v>4.17391304347826</c:v>
                </c:pt>
                <c:pt idx="6">
                  <c:v>4.17391304347826</c:v>
                </c:pt>
                <c:pt idx="7">
                  <c:v>4.173913043478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  <c:pt idx="13">
                  <c:v>0</c:v>
                </c:pt>
                <c:pt idx="14">
                  <c:v>0</c:v>
                </c:pt>
                <c:pt idx="15">
                  <c:v>0</c:v>
                </c:pt>
              </c:numCache>
            </c:numRef>
          </c:val>
        </c:ser>
        <c:gapWidth val="100"/>
        <c:overlap val="0"/>
        <c:axId val="8120130"/>
        <c:axId val="36650983"/>
      </c:barChart>
      <c:catAx>
        <c:axId val="812013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50983"/>
        <c:crossesAt val="0"/>
        <c:auto val="1"/>
        <c:lblAlgn val="ctr"/>
        <c:lblOffset val="100"/>
        <c:noMultiLvlLbl val="0"/>
      </c:catAx>
      <c:valAx>
        <c:axId val="36650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013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EC3-B13A-4298-8D6F-1971316E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4CA-FDCF-4C0C-8C0F-BCED9A9D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AB13-3D78-42C0-B1B5-EAAE4CDF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43D-7A81-4DB3-8586-07C8A862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6C8-8B12-4335-BC80-06A4844B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0584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16400" y="170028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528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0584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16400" y="4064400"/>
            <a:ext cx="229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7FE-9BD9-4F5C-BA49-FA12A5A9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B08-BE99-44FF-A4BA-4B4352A1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11E-C5AC-4F18-804B-4EA27A55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79E-F95B-42A5-98B9-6E7DC8BF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8BE3-57CF-4540-8ED3-71A343D0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406440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AAB-FBB4-49BA-A4B6-718B9531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700280"/>
            <a:ext cx="3479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64400"/>
            <a:ext cx="712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7C0-42C7-4B1A-8793-700266F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1280" y="636444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492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636444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011D-80F5-4D44-92EF-49B6F00467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4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5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6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7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8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cronograma%20de%20a&#231;&#227;o%20das%20escolas/cronograma%20-%20Euz&#233;bio%20-%20EEAJMA.doc" TargetMode="External"/><Relationship Id="rId2" Type="http://schemas.openxmlformats.org/officeDocument/2006/relationships/hyperlink" Target="file:///../cronograma%20de%20a&#231;&#227;o%20das%20escolas/cronograma%20-%20Gisele%20-%20EEAJMA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1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2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chart" Target="../charts/chart3.xml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1213920"/>
            <a:ext cx="64818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E ANTONIO JOAQUIM DE MOURA ANDRADE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NOVA ANDRADINA - 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68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aixaDeTexto 4"/>
          <p:cNvSpPr/>
          <p:nvPr/>
        </p:nvSpPr>
        <p:spPr>
          <a:xfrm>
            <a:off x="1500120" y="4500720"/>
            <a:ext cx="30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429160" y="46432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Object 8"/>
          <p:cNvGraphicFramePr/>
          <p:nvPr/>
        </p:nvGraphicFramePr>
        <p:xfrm>
          <a:off x="0" y="1571760"/>
          <a:ext cx="7129440" cy="2325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5" name="CaixaDeTexto 10"/>
          <p:cNvSpPr/>
          <p:nvPr/>
        </p:nvSpPr>
        <p:spPr>
          <a:xfrm>
            <a:off x="428760" y="4857840"/>
            <a:ext cx="2857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9"/>
          <p:cNvGraphicFramePr/>
          <p:nvPr/>
        </p:nvGraphicFramePr>
        <p:xfrm>
          <a:off x="500040" y="428616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428616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A GIS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50080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571680" y="1714680"/>
          <a:ext cx="6786360" cy="270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36" name="CaixaDeTexto 10"/>
          <p:cNvSpPr/>
          <p:nvPr/>
        </p:nvSpPr>
        <p:spPr>
          <a:xfrm>
            <a:off x="1428840" y="5000760"/>
            <a:ext cx="214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8"/>
          <p:cNvGraphicFramePr/>
          <p:nvPr/>
        </p:nvGraphicFramePr>
        <p:xfrm>
          <a:off x="1143000" y="4643280"/>
          <a:ext cx="3811680" cy="144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643280"/>
                    <a:ext cx="3811680" cy="14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643720" y="471492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7"/>
          <p:cNvGraphicFramePr/>
          <p:nvPr/>
        </p:nvGraphicFramePr>
        <p:xfrm>
          <a:off x="142920" y="1643040"/>
          <a:ext cx="712944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CaixaDeTexto 8"/>
          <p:cNvSpPr/>
          <p:nvPr/>
        </p:nvSpPr>
        <p:spPr>
          <a:xfrm>
            <a:off x="857160" y="4643280"/>
            <a:ext cx="3786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8"/>
          <p:cNvGraphicFramePr/>
          <p:nvPr/>
        </p:nvGraphicFramePr>
        <p:xfrm>
          <a:off x="1000080" y="45007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5007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aixaDeTexto 4"/>
          <p:cNvSpPr/>
          <p:nvPr/>
        </p:nvSpPr>
        <p:spPr>
          <a:xfrm>
            <a:off x="1571760" y="4572000"/>
            <a:ext cx="235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643720" y="457200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8"/>
          <p:cNvGraphicFramePr/>
          <p:nvPr/>
        </p:nvGraphicFramePr>
        <p:xfrm>
          <a:off x="14292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1" name="CaixaDeTexto 9"/>
          <p:cNvSpPr/>
          <p:nvPr/>
        </p:nvSpPr>
        <p:spPr>
          <a:xfrm>
            <a:off x="714240" y="4786200"/>
            <a:ext cx="3000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9"/>
          <p:cNvGraphicFramePr/>
          <p:nvPr/>
        </p:nvGraphicFramePr>
        <p:xfrm>
          <a:off x="714240" y="45007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5007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aixaDeTexto 4"/>
          <p:cNvSpPr/>
          <p:nvPr/>
        </p:nvSpPr>
        <p:spPr>
          <a:xfrm>
            <a:off x="1643040" y="442908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572080" y="4643280"/>
            <a:ext cx="169560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8"/>
          <p:cNvGraphicFramePr/>
          <p:nvPr/>
        </p:nvGraphicFramePr>
        <p:xfrm>
          <a:off x="142920" y="1643040"/>
          <a:ext cx="7129440" cy="237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9" name="CaixaDeTexto 9"/>
          <p:cNvSpPr/>
          <p:nvPr/>
        </p:nvSpPr>
        <p:spPr>
          <a:xfrm>
            <a:off x="1000080" y="4572000"/>
            <a:ext cx="3214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9"/>
          <p:cNvGraphicFramePr/>
          <p:nvPr/>
        </p:nvGraphicFramePr>
        <p:xfrm>
          <a:off x="714240" y="442908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42908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584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nenhu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Port / G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20,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79,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No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unca utilizaram: (artes/ Inglê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utilizaram: (Portuguê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ociosas: 83,8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de aulas utilizadas: 16,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ixaDeTexto 4"/>
          <p:cNvSpPr/>
          <p:nvPr/>
        </p:nvSpPr>
        <p:spPr>
          <a:xfrm>
            <a:off x="2643120" y="5500800"/>
            <a:ext cx="3571920" cy="580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Notu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ALGUNS PONTOS PARA REFLETIR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AR ATENTAS ÀS DATAS PREVISTAS PARA TÉRMINO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BÉNS PELO COMPROMISSO ASSUMIDO JUNTO À ESC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IRO PARA O 2º SEMESTRE ATENÇÃO ESPECIAL A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FESSORES AUSE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STE NO 1º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REFLEXÃ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as ações que foram desenvolvidas p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multiplicadores (NTE – STE) no 1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, analisar e refletir a respeito do uso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TE da escola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cronograma de ações do 2º semestr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(Welit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rientar na elaboração do cronograma de ações d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fessores da STE no 2º semestre para form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 loco; (Welit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 Pontos a refleti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5. Apresentar e discutir cronograma de ações NTE/STE para o 2º semestre; (Welit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Euzé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o plano de ação - Gis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 e jun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ço Reservado para Rodapé 2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700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ESSOR EUZÉ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57880" y="47149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95280" y="1571400"/>
            <a:ext cx="7129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7"/>
          <p:cNvGraphicFramePr/>
          <p:nvPr/>
        </p:nvGraphicFramePr>
        <p:xfrm>
          <a:off x="142920" y="1571760"/>
          <a:ext cx="6929280" cy="287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0" name="CaixaDeTexto 9"/>
          <p:cNvSpPr/>
          <p:nvPr/>
        </p:nvSpPr>
        <p:spPr>
          <a:xfrm>
            <a:off x="4429080" y="3000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10"/>
          <p:cNvSpPr/>
          <p:nvPr/>
        </p:nvSpPr>
        <p:spPr>
          <a:xfrm>
            <a:off x="1071720" y="500076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8"/>
          <p:cNvGraphicFramePr/>
          <p:nvPr/>
        </p:nvGraphicFramePr>
        <p:xfrm>
          <a:off x="1000080" y="47149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57880" y="4572000"/>
            <a:ext cx="16952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7"/>
          <p:cNvGraphicFramePr/>
          <p:nvPr/>
        </p:nvGraphicFramePr>
        <p:xfrm>
          <a:off x="0" y="1643040"/>
          <a:ext cx="7129440" cy="253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08" name="CaixaDeTexto 8"/>
          <p:cNvSpPr/>
          <p:nvPr/>
        </p:nvSpPr>
        <p:spPr>
          <a:xfrm>
            <a:off x="1071720" y="4929120"/>
            <a:ext cx="278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8"/>
          <p:cNvGraphicFramePr/>
          <p:nvPr/>
        </p:nvGraphicFramePr>
        <p:xfrm>
          <a:off x="928800" y="4500720"/>
          <a:ext cx="381132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4500720"/>
                    <a:ext cx="38113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aixaDeTexto 4"/>
          <p:cNvSpPr/>
          <p:nvPr/>
        </p:nvSpPr>
        <p:spPr>
          <a:xfrm>
            <a:off x="1214280" y="478620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ço Reservado para Rodapé 6"/>
          <p:cNvSpPr/>
          <p:nvPr/>
        </p:nvSpPr>
        <p:spPr>
          <a:xfrm>
            <a:off x="1835280" y="636444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57880" y="4500720"/>
            <a:ext cx="1695240" cy="79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357120" y="17146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500040" y="1785960"/>
          <a:ext cx="6643800" cy="2786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17" name="CaixaDeTexto 11"/>
          <p:cNvSpPr/>
          <p:nvPr/>
        </p:nvSpPr>
        <p:spPr>
          <a:xfrm>
            <a:off x="1143000" y="5000760"/>
            <a:ext cx="2786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9"/>
          <p:cNvGraphicFramePr/>
          <p:nvPr/>
        </p:nvGraphicFramePr>
        <p:xfrm>
          <a:off x="857160" y="4714920"/>
          <a:ext cx="3811680" cy="144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4714920"/>
                    <a:ext cx="38116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26:23Z</dcterms:created>
  <dc:creator>Luciana Catarino</dc:creator>
  <dc:description/>
  <dc:language>en-US</dc:language>
  <cp:lastModifiedBy>Luciana Catarino</cp:lastModifiedBy>
  <dcterms:modified xsi:type="dcterms:W3CDTF">2009-07-11T00:52:14Z</dcterms:modified>
  <cp:revision>24</cp:revision>
  <dc:subject/>
  <dc:title>EE PADRE ANCHIETA NOVA ANDRADINA - MS</dc:title>
</cp:coreProperties>
</file>